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6E1-7B15-419C-A007-17D74933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B2-4119-43C1-9651-585CA8E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6B8-5960-448B-ABAA-360B3128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69D-8374-4B7F-91CE-B9CD027B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4E4-113F-4252-A7F6-9D0F7DC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F0B-D152-422E-809B-78CCC7C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FD8-CDF6-414E-9DCC-1A993A1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2B2-596C-481E-A7E9-7A17302F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31B-71F2-4D24-902B-AC94A924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F04-F8EA-4DFF-A23B-11A0DC18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E64-8E81-4102-A536-A340E0B0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3DA-96A5-4497-995F-02A6DAA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D1DF-7027-4B41-8466-704999A0D02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09:56:20Z</dcterms:created>
  <dc:creator>Uchilishte</dc:creator>
  <dc:description/>
  <dc:language>en-US</dc:language>
  <cp:lastModifiedBy>Елка</cp:lastModifiedBy>
  <dcterms:modified xsi:type="dcterms:W3CDTF">2020-03-24T15:23:00Z</dcterms:modified>
  <cp:revision>4</cp:revision>
  <dc:subject/>
  <dc:title>PowerPoint Presentation</dc:title>
</cp:coreProperties>
</file>