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97D-64F1-4369-A63B-1EA3481F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70E-2F6B-4413-B5BF-D8834365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EAD-1358-45E0-86A7-42BBAC96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C85-31A1-4417-AAB3-2433FFF3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12A-4997-4A8B-834C-8C168336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A9E-10E6-40AA-8CC8-D61FAC30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320-F264-4356-BE0B-D7AC5596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D0A-0939-43A2-9237-BA42E217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833-561B-46D6-9977-CDEC94E4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652-B823-44BF-97A0-6C215EF1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7A5-C799-469E-A560-95F40351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6F1-C72A-43CB-B877-7ED4CF7B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92F2-9B16-45F6-A7F0-AC760BCC65E0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6T09:56:20Z</dcterms:created>
  <dc:creator>Uchilishte</dc:creator>
  <dc:description/>
  <dc:language>en-US</dc:language>
  <cp:lastModifiedBy>Елка</cp:lastModifiedBy>
  <dcterms:modified xsi:type="dcterms:W3CDTF">2020-03-24T15:23:00Z</dcterms:modified>
  <cp:revision>4</cp:revision>
  <dc:subject/>
  <dc:title>PowerPoint Presentation</dc:title>
</cp:coreProperties>
</file>