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A82-BFF4-4DF2-B7B2-5538852C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15D-64BF-4C73-9670-A0C38964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B19-AF6C-4160-B21D-FFE119E8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8D7-9BC9-483C-A5C0-BD5D5D67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367-2809-4178-8339-B8A9B1D2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2A7-E2A4-48BD-BC4C-95596BEE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5E87-43E5-4EC7-9A14-1612E9C6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6E8-DA9D-45D5-B7F3-1FC66B08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51E-C9FA-4EB3-A556-AE29213B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84D2-FCF1-4F85-8680-10746661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EB42-C418-4273-AB32-72A1968A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477-A0E0-49C8-BB6B-27DD0DEC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8DA34-8451-490A-80FE-B65959D6F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57080" y="2457360"/>
            <a:ext cx="8791560" cy="197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000000"/>
                </a:solidFill>
                <a:latin typeface="Comic Sans MS"/>
              </a:rPr>
              <a:t>Предизвикателството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56960" y="4992480"/>
            <a:ext cx="9505800" cy="112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По различно училищно обучение,  по различни социални контак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98680" y="258840"/>
            <a:ext cx="7940880" cy="147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000000"/>
                </a:solidFill>
                <a:latin typeface="Comic Sans MS"/>
              </a:rPr>
              <a:t>Какво е различното?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41160" y="2180880"/>
            <a:ext cx="879156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Факт е, че сме в интернет пространството /нещо, което до скоро беше лекооооооооо ограничавано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1611360" y="4941720"/>
            <a:ext cx="87915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ФАКТ Е, ЧЕ НЕ Е ЖЕЛАТЕЛНО ДА СЪМ НАВЪН: ПРИЯТЕЛИТЕ, ФУТБОЛА, МОЛОВЕТЕ СА ОГРАНИЧ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840" y="215640"/>
            <a:ext cx="741816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omic Sans MS"/>
              </a:rPr>
              <a:t>Защо е това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41560" y="2351160"/>
            <a:ext cx="71485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Всички говорят за коронавирус 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VID – 19</a:t>
            </a: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Placeholder 2"/>
          <p:cNvSpPr/>
          <p:nvPr/>
        </p:nvSpPr>
        <p:spPr>
          <a:xfrm>
            <a:off x="422280" y="1376280"/>
            <a:ext cx="990432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Обявено е извънаредно положение: наложени са строги ограничителни мерки, които целят да опазят живота и здравето на хора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Placeholder 2"/>
          <p:cNvSpPr/>
          <p:nvPr/>
        </p:nvSpPr>
        <p:spPr>
          <a:xfrm>
            <a:off x="166680" y="3110040"/>
            <a:ext cx="957744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Училищното обучение е дистанционно/ фейсбук групи, школо.бг, уча се, виртуална класна стая, он-лайн уроци.... /дали вече не ми липсва нормалната училищна среда...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Placeholder 2"/>
          <p:cNvSpPr/>
          <p:nvPr/>
        </p:nvSpPr>
        <p:spPr>
          <a:xfrm>
            <a:off x="3487680" y="4619520"/>
            <a:ext cx="8524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egoe Script"/>
              </a:rPr>
              <a:t>N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721400" y="4694400"/>
            <a:ext cx="6095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сички процеси са циклични. Вирусите се появяват регулярно. Регулярно се случват икономически кризи. Регулярно се случват пролетните обостряния на тревожността. Такъв е кръговратът на състоянията в природата.</a:t>
            </a:r>
            <a:r>
              <a:rPr b="0" lang="bg-BG" sz="18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 Регулярно имаме първи срок, ваканция, втори срок, лятна ваканция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50520" y="244080"/>
            <a:ext cx="9906120" cy="106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Comic Sans MS"/>
              </a:rPr>
              <a:t>Как се чувствам ? </a:t>
            </a:r>
            <a:r>
              <a:rPr b="0" lang="bg-BG" sz="5400" spc="-1" strike="noStrike">
                <a:solidFill>
                  <a:srgbClr val="000000"/>
                </a:solidFill>
                <a:latin typeface="Comic Sans MS"/>
              </a:rPr>
              <a:t>Може би..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471320"/>
            <a:ext cx="9906120" cy="20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000000"/>
                </a:solidFill>
                <a:latin typeface="Comic Sans MS"/>
              </a:rPr>
              <a:t>...  Леко Стресиран/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000000"/>
                </a:solidFill>
                <a:latin typeface="Comic Sans MS"/>
              </a:rPr>
              <a:t>... Малко объркан/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000000"/>
                </a:solidFill>
                <a:latin typeface="Comic Sans MS"/>
              </a:rPr>
              <a:t>... разтревожен/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000000"/>
                </a:solidFill>
                <a:latin typeface="Comic Sans MS"/>
              </a:rPr>
              <a:t>...уязвим/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000000"/>
                </a:solidFill>
                <a:latin typeface="Comic Sans MS"/>
              </a:rPr>
              <a:t>.... Уплашен/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Placeholder 2"/>
          <p:cNvSpPr/>
          <p:nvPr/>
        </p:nvSpPr>
        <p:spPr>
          <a:xfrm>
            <a:off x="1895400" y="3551400"/>
            <a:ext cx="990612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mic Sans MS"/>
              </a:rPr>
              <a:t>...  ХМ, НАИСТИНА! КАК НАИСТИНА СЕ ЧУВСТВАМ В ЦЯЛАТА ТАЗИ СИТУАЦИЯ ?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Placeholder 2"/>
          <p:cNvSpPr/>
          <p:nvPr/>
        </p:nvSpPr>
        <p:spPr>
          <a:xfrm>
            <a:off x="911160" y="4626000"/>
            <a:ext cx="99061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egoe Script"/>
              </a:rPr>
              <a:t>NB</a:t>
            </a:r>
            <a:r>
              <a:rPr b="0" lang="bg-BG" sz="1800" spc="-1" strike="noStrike">
                <a:solidFill>
                  <a:srgbClr val="ff0000"/>
                </a:solidFill>
                <a:latin typeface="Segoe Scrip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671480" y="4789440"/>
            <a:ext cx="648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Страхът, гневът и тревогата са нормални и естествени </a:t>
            </a:r>
            <a:r>
              <a:rPr b="0" lang="bg-BG" sz="18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в необичайни ситуации</a:t>
            </a:r>
            <a:r>
              <a:rPr b="0" lang="en-US" sz="18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. Всичко това отминава. Психиката се пренастройва към новите обстоятел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9560" y="159840"/>
            <a:ext cx="8460000" cy="10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000000"/>
                </a:solidFill>
                <a:latin typeface="Comic Sans MS"/>
              </a:rPr>
              <a:t>Какво мога да направя?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1520" y="1184040"/>
            <a:ext cx="9906120" cy="19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да разговорям за чувствата ми 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Родит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Прият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Учит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Психолог/педагогически съвет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460440" y="3697200"/>
            <a:ext cx="990576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mic Sans MS"/>
              </a:rPr>
              <a:t>ДА СПАЗВАМ ПРЕПОРЪКИТЕ ЗА ЛИЧНАТА ХИГИЕНА, ДИСТАНЦИЯТА, КОНТАКТИТЕ НА ЖИ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mic Sans MS"/>
              </a:rPr>
              <a:t>ДА СЕ ОБУЧАВАМ ПО НОВ НАЧ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mic Sans MS"/>
              </a:rPr>
              <a:t>ДА ОБЩУВАМ С РОДИТЕЛИТЕ 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mic Sans MS"/>
              </a:rPr>
              <a:t>ДА СЕ ИНФОРМИРАМ ЗА СИТУАЦИЯТА ОТ ДОСТОВЕРНИ ИЗТОЧНИЦ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mic Sans MS"/>
              </a:rPr>
              <a:t>/ НАПРИМЕР: САЙТА НА УНИЦЕФ, СВЕТОВНАТА ЗДРАВНА ОРГАНИЗАЦИЯ, САЙТА НА УЧИЛИЩЕТО МИ,   МОИТЕ РОДИТЕЛИ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Placeholder 2"/>
          <p:cNvSpPr/>
          <p:nvPr/>
        </p:nvSpPr>
        <p:spPr>
          <a:xfrm rot="656400">
            <a:off x="6586200" y="1746360"/>
            <a:ext cx="53211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egoe Script"/>
              </a:rPr>
              <a:t>NB</a:t>
            </a:r>
            <a:r>
              <a:rPr b="0" lang="bg-BG" sz="1400" spc="-1" strike="noStrike">
                <a:solidFill>
                  <a:srgbClr val="ffffff"/>
                </a:solidFill>
                <a:latin typeface="Segoe Script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Segoe Script"/>
              </a:rPr>
              <a:t>В САЙТА НА УЧИЛИЩЕТО НИ ИМА КАЧЕНА ИНФОРМАЦИЯ КАК ДА ПОТЪРСИШ ПСИХОЛОГИЧЕСКА ПОДКРЕПА ПРИ ДИСТАНЦИОННО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7520" y="159840"/>
            <a:ext cx="8632800" cy="9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Comic Sans MS"/>
              </a:rPr>
              <a:t>Да опитам </a:t>
            </a:r>
            <a:r>
              <a:rPr b="0" lang="bg-BG" sz="5400" spc="-1" strike="noStrike">
                <a:solidFill>
                  <a:srgbClr val="000000"/>
                </a:solidFill>
                <a:latin typeface="Comic Sans MS"/>
              </a:rPr>
              <a:t>нещо ново...?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7120" y="1236600"/>
            <a:ext cx="102902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Да почета книга...истинска, хартие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Да поровя из нета за достъпни, безплатни сайтове за книги /хей, ако имаш нужда от идеи - ние ще ти помогнем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Да  посетя някои музей...онлайн /и за това можем да ти бъдем полезни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Сега му е времето да си измисля ново хоби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А настолните, семейни игри?...кой ли ще бие на „Не се сърди човече“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Сега е времето за онези неща, за който досега си нямал/а време...замисли ли се...?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Placeholder 2"/>
          <p:cNvSpPr/>
          <p:nvPr/>
        </p:nvSpPr>
        <p:spPr>
          <a:xfrm>
            <a:off x="1359000" y="4484520"/>
            <a:ext cx="990576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buClr>
                <a:srgbClr val="89898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Placeholder 2"/>
          <p:cNvSpPr/>
          <p:nvPr/>
        </p:nvSpPr>
        <p:spPr>
          <a:xfrm>
            <a:off x="4229280" y="4772160"/>
            <a:ext cx="13492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Segoe Script"/>
              </a:rPr>
              <a:t>N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5038560" y="4772160"/>
            <a:ext cx="609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Запасете се с ресурси. Това са различни психологически глезотийки: добър сън,  хубава книга, увлекателен сериал, общуване с </a:t>
            </a:r>
            <a:r>
              <a:rPr b="0" lang="bg-BG" sz="18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близки</a:t>
            </a:r>
            <a:r>
              <a:rPr b="0" lang="en-US" sz="18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 хора</a:t>
            </a:r>
            <a:r>
              <a:rPr b="0" lang="bg-BG" sz="18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, творчество/рисуване, писане на стихове, приказки, разкази/, личен днев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6T15:54:04Z</dcterms:created>
  <dc:creator>pc1</dc:creator>
  <dc:description/>
  <dc:language>en-US</dc:language>
  <cp:lastModifiedBy>Елка</cp:lastModifiedBy>
  <dcterms:modified xsi:type="dcterms:W3CDTF">2020-03-24T15:34:57Z</dcterms:modified>
  <cp:revision>20</cp:revision>
  <dc:subject/>
  <dc:title>Предизвикателството</dc:title>
</cp:coreProperties>
</file>